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2D819-6B63-4537-927F-5EB6B9D61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441DA-1DE2-4C5C-AE48-0A2C31AC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8919D-5DCE-41B5-B288-4438572AF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579EC-DC21-43C8-8AD3-893FE927B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9171-7696-4C7C-B141-C56F5DE1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670C-BD4E-4E3B-AD55-2E549999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8AD0-2268-477F-8712-FF23563A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2801-9704-4D78-B28A-85A715F5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2CAA-033E-46E6-B326-51DBB8DA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2EA3-E596-4617-8508-03BEFA09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EA99-ED3C-4509-BCDA-97AD7465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F6C4C-98A1-4505-8EF0-2A392F4E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DB32-786A-43DC-9475-0BF3C971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A014-4BEA-4D1C-86AE-A45EAB99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2825-94D4-4631-953A-267651FA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CECA-AC85-4F66-80DD-F81A49C89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6517-4A54-4D58-82B0-45BA2C2BA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955A1-E4D0-451D-9D85-630B9E10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56D12-7EF1-4FD6-8A7C-601F93C0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85627-BD2C-4C79-86EF-E3C61BD7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2A3B4-DFB3-452E-B5A6-4E946330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4C095-DA61-40EE-8725-A2D45922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6A05F-845E-4B84-B88E-BB119D8D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3962F-7801-456E-A57C-338F9958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0B4D-CFE4-446F-AF89-F7066FFF31B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8245-1BD0-4942-B23E-9FB57129D4C5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23040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0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564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О, безопасно място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Христовите ръце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Неговото лоно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аз слагам си сърце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Глас ангелски ме вик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 песни отсред неб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че има при Исус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ълно весели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44324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, безопасно място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Христовите ръце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Неговото лоно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аз слагам си сърц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541440" y="530640"/>
            <a:ext cx="100821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 О, безопасно място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т грижа и бед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Грях, изкушение адско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е ще ме побед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ам скърби не върлуват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и страх, съмнени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лачове не се чуват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се е весели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541440" y="144324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, безопасно място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Христовите ръце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Неговото лоно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аз слагам си сърц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53208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 Ти всякога, Исус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мен жилище бъд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аз сладко да почин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Твоите гърд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ихо аз тука чакам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оде премине мрак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във зори съгледам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ебесний златен бряг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541440" y="144324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, безопасно място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Христовите ръце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Неговото лоно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аз слагам си сърц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01T15:25:42Z</dcterms:modified>
  <cp:revision>136</cp:revision>
  <dc:subject/>
  <dc:title>Slide 1</dc:title>
</cp:coreProperties>
</file>